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090A-C76E-45BE-9C3F-302529569EE9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E89-1FBA-417A-AB76-8B059068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A22-7BB0-4A86-8E12-31044873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79D-BAB6-4102-B3FF-92A7E969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3D9-09BE-4D1D-8DFA-FD6B03DA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E59E-3692-45C2-8375-EF0F8B50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0A73-2143-46F9-886C-D6E8EDBF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CD9B-2FF1-49F1-8CB3-E4426792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53E1-1070-442A-B35C-91EB7725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6FD3-D973-492F-9EDE-A21DF21B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B663-5EE4-4AFC-8572-96531A51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4A6F-058F-4DEA-A062-6685441B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82B-75A4-4FB5-853A-2A88FF98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A374-170C-408B-9599-CB1AB7B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634E-7435-4CAF-BF08-8CB6ED62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CB8B-A7AB-499F-81BA-29F2684A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789C-EA49-4FA1-89B8-2A2214CD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1C61-4505-4878-B092-5ECE9148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BFAF-1DC2-4137-A48D-F8C653D3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32BCF-4E14-41B9-86CB-DB5BE769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8BDE-A0B9-46F6-918D-3BDC8DB2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D8C26-000D-471C-BBBD-24E7FFC4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E3B7-5930-4C2F-B98B-2131443A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80B-23E4-43ED-898B-9F49C30E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9C8A0-1738-4FE6-9FE5-40ABDA3A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E88F-2B7A-4373-B9F2-1F3B1BD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71C1-DC78-47B6-86F4-64EF60CA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9EE4C-E48F-42FE-AB9E-1BEA31F9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2B08-D958-4D8D-8A91-B45F33D8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2461-5618-4FC6-B4E6-5ABB0919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3559-CED8-49EF-A470-9E25B555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EE45-32D4-4349-B292-CCBEF1F4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58759-0AC4-408B-9557-8AF2B9EE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713F-781C-4991-9F61-A4EFF5E8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FED-B161-4D81-ABD8-4AE10862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0869D-87D7-4668-9B4C-4E6B963C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594A-5914-428A-A93B-C10276ED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815B-D30C-4C01-AB0F-38A3026F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2221-29D7-44FE-8831-3435B848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439BF-3A0D-43DF-B68C-B90992A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13FF7-B63D-4F9B-92A9-394865B5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7FA4-C837-4010-9D07-013E1526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BD957-2A33-4262-9AF6-C259BB94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E543-D384-4330-A2E0-1FEAF47B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AE9-ADEA-414F-9AEB-20FEF75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14E-CE31-488B-94E5-61A60574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846-6DC2-433E-AEF0-A7EEC7A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EB1-9362-473E-B530-7FA006DB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438-B1E2-4073-A798-9CE52D75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5694-2243-47B2-9F5B-C1E14961B7EE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71A7-1420-4A1E-8C8B-E7E7B38DC73E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3557-4595-4AE3-B5DD-D7D7A09AC866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0BAD-13FC-4E17-9C4C-0D1D295C1F15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4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20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LEGION</cp:lastModifiedBy>
  <dcterms:modified xsi:type="dcterms:W3CDTF">2017-07-03T10:07:26Z</dcterms:modified>
  <cp:revision>114</cp:revision>
  <dc:subject/>
  <dc:title>Bhopal Gas Tragedy</dc:title>
</cp:coreProperties>
</file>